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89F-02AC-4694-ACC4-6F43EEFD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96A-2A2C-486E-BC25-FED32927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326-77BB-490E-BFBD-6B552E6F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441-1E40-415B-AB81-E767DC3A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4CD5-8EE0-4303-900E-F0FDBD6D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9E70-B7DE-4526-A674-097AB8A1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7BDF-848D-4F8E-8970-4BBF6B3E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0E69-89EB-428B-9DFC-F49340E2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7C09-38D1-46AA-ABFA-9E01C773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1AEC-1947-4FFD-B338-26E9C244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4A8E-1A32-49EE-BC8E-41E1E88B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6F8-641E-4A4C-BB54-84F16EFE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043C-A9BB-4B5C-A2C3-FF8450EA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67B6-179C-4B5F-B3D2-B1ADBAA2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9CF4-3880-4731-855E-852772BE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B76E-D275-4A38-A510-F0E52219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09CE-A451-4BF0-B9D1-4FC684C3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353-9EB4-496A-862F-2AFA0775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D76-648E-4797-8BDF-EF92EA2C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0C9-B9BB-4EEA-B1FD-ED3CB04B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1C1-4957-4DBF-B621-6A21A1CB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218-FD50-438D-8C67-C8E8CEA4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5AD-8693-4B1A-AF41-4B364304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613-E6F2-4AC2-B5BC-AD515645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4454-546C-4902-949C-D969E40AFB9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6B00-ADE2-4CD6-8E34-42272D4C243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tered Level of Conscious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ency Department 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3038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rief Neurologic/MM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limited due to patient’s inability to coope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M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entation (5): year, season, date, day, mon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entation (5): state, county, town, hospital, flo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stration (3): Name 3 objects (patient repeat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tention/Calculation (5): Serial 7’s or “WORLD” backw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all (3): Recall 3 objects named previous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guage (2): Name a pencil and  wat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etition (1): “No ifs, ands, or but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x Commands (6): Follow 3 stage verbal command, follow printed commands: “Close eyes”, “Write a sentence”, “Copy design” (intersecting pentag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ore of &lt;24 abnor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u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General Categ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ary Intracrani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eed, infection, tu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stemic Disease Affecting C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al, cardiac, pulmonary, infectious, e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ogenous Toxi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vironmental exposures, medications, drugs/eto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g/ETOH withdra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nemonic: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WATCH DEA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Inf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Withdra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cute metabolic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cidosis, alkalosis, lytes, liver/renal fail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rau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NS pathology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leed, infxn, CVA, seizure,tumor, vasculiti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ypoxi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nemia, CO poisoning, resp/CV fail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Deficienci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12, folate, thiamine, niaci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Endocrinopathi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drenal, pancreatic, thyroid, parathyroi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cute Vascular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HTN encephalopathy, CVA, arrhythmia, shock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oxins/Dru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eavy Meta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lead, manganese, mercu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k-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d by history/exam findings/vi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BC, comp pa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um ammonia/coag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f suspect liver d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12, folate leve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more helpful for inpt tea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G w/ carboxyhemoglobin level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f suspect CO-poisoning). Also will uncover hypercarb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tious w/u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UA, CXR, Bld Cx, L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OX, ASA/Tylenol/ETOH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ocrin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edside CBG, TSH, calcium/phos levels, cortisol leve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rain, abdomen, chest depending on suspected sourc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KG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rrhythmia, o/d’s, MI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ergency Department Inter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 suspected underlying cause (infection, withdrawal, o/d, CVA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threshold for RSI (inability to protect airway, coma, poor gag): treat easily reversible causes first (ex: hypoglycemia, narcotic o/d responsive to narcan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m acute agitation with sedatives and neuroleptics to control behavior, facilitate procedures, protect staff, prevent rhab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restraint preferable to physical restra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dications- Sedatives &amp; Neurolept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azepam (Ativ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dazolam (Vers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operidol (Hald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peridol - (Inapsine) not available in 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iprasidone (Geodon) - injec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peridone (Risperdal) - dissolvab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anzapine (Zyprexa) - dissolv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iv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zo of choice in 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/SL/IM/I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e mixed with neuroleptic in syri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 onset, relatively long d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ferred over neuroleptic in treating toxic effects of stimu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ult dose (doses for EtOH w/d much high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.5-2mg PO/S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4mg 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-2mg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tion: try to avoid when EtOH on-board as risk for respiratory suppression sig hig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dazol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zo with rapid onset, brief d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imes used by paramed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ful for rapid sedation of dangerously agitated pati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recommended when EtOH involved - increased risk of respiratory de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ult d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- 5 mg IM/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operidol (Hald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g of choice for acute severe agitation, psychosis, delirium, &amp; for severe agitation w/EtOH on bo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mixed in syringe w/lorazepam and diphenhydramine (often included for dystonic rx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-5mg P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-5mg IV/IM (5mg usual dose) - IV only in ICU at CCRM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au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hypotension, can lower seizure threshold, QT prolongation (IV for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peridol (Inaps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ter acting and more sedating then Haldo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likely to cause hypoten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er risk of QT prolongation/Tors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ECG/QT interval before administe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ult Dose: 0.625-5mg IV/IM (5mg usual do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ent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, slowly progressive  decline in memo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orium usually clear (in contrast to delirium)- patient oriented unless late stages of dement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irium can be superimposed on dementia- need corroborating history of baseline mental sta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i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confusional state- transient disorder with impairment of attention and 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of this ta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-less common for ED u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iprasidone (Geod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likely to cause severe dystonic re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ult dose: 10 - 20 mg 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peridone (Risperdal) &amp; Olanzapine (Zyprex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used for sundowning in dement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available in rapidly dissolving PO 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tidotes- “Coma Cocktail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amine (100mg IV/I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e (50ml of D50W IV pus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loxone (2-10mg SC/IM/IV or via ET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umazeni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controversial- may induce refractory seizures in setting of long-term use or mixed o/d with seizure inducing agents like T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TFA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ETOH “just drunk”- higher incidence of intracrani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psych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dementia in old p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getting corroborating in a patient who can’t tell you hx/sx’s,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sing hidden sources of infection by not undressing/rolling pat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stein,P. Delirium, Dementia, and Amnesia.http://emedicine.medsca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/article/793247-overview. Accessed February 15, 201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eason, O. Delirium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merican Family Physician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1,200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ff,J. Altered Mental Status and Coma. In: Tintinalli JE, Krome RL, Ruiz E, eds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mergency Medicine: A Comprehensive Study Gu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6th ed. New York, NY: McGraw-Hill; 2004: 1390-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3782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is it importa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rium accounts for 10-15% of admissions to acute-care hospitals (though may not be primary diagnos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causes of delirium may be fatal if not reversed/treated: CNS infection, severe hypoglycemia, DTs, thyroid storm, TCA o/d,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ey Components of Deliri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onset (hours-day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uctuating L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; falling asleep during interview. Waxing/waning conf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s in 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ory, language, organization, attention (may ask you to repeat questions, etc), disorientation to time/place/per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eep disturb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otional lability, sometimes agi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ceptual disturb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llucinations (visual&gt;auditory), del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urologic sig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ait changes, tremor, asterixis, myoclon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SM-IV Crite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isturbance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nsciousnes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.e., reduced clarity of awareness about the environment) with reduced ability to focus, sustain, or shift atten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 change in cogn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e.g., memory deficit, disorientation, language disturbance) or development of a perceptual disturbance that is not better accounted for by a preexisting, established, or evolving dement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isturbance develops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ver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hort period of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usually hours to days) and tends to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luctu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uring the course of a da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idence from the history, physical examination, or laboratory findings indicate that the disturbance is caused by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irect physiologic consequences of a general medical cond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Diagnostic and statistical manual of mental disorders: DSM-IV-TR. Washington, D.C., American Psychiatric Association, 2000:143. Copyright 2000, American Psychiatric Association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fferentiating Delirium from Dementia and Psychiatric Psycho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7652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Characteri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elir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ement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Psychiat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ns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ver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sidi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dd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urse over 24h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uctua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cious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duc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tt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g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llucin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sual&gt;Audit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ditory&gt;Vis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lus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ns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ually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stain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v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erixis, trem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143000" y="6019920"/>
            <a:ext cx="70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apted from Tintinalli, J., et al. Emergency Medicine: A Comprehensive Study. 200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se/On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functions aff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ory, mood, perception, orientation, speech, e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corroborating history from family, friends, caregivers: Key to diagnosi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eline fun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M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ug use h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/o psych d/o or prior similar present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gt;50 y.o. w/o prior psych hx- thing organ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 Appear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mpt, disheveled, et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cte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pilary constriction (Narcotics), dilation (anti-cholinergics, cocaine/meth, hallucinogen), asymmetry (CNS insul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pilled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TOH, fruity (DKA), musty (fetor hepati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terixis, tremulousnous/agitation (w/d benzo or ETO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dden sources of infection (decubitus ulcers, cellulitis in hidden areas) - do full skin survey (undress and roll patien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tle signs of head trau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motympanum, Battle sign, Raccoon’s eyes, otorhinorrh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tal Signs as C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d press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ertension (HTN emergency, preeclampsia, elevated ICP especially if also bradycardic, stimulant o/d, D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ension (sepsis, various o/d’s, dehydration, et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art 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chycardia (fever, sepsis, dehydration, thyroid storm, o/d of stimulant, anticholinergics, theophylline, TCA, AS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dycardia (elevated ICP, asphyxia, o/d AV-node blocker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piratory 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chypnea (DKA, sepsis, ASA o/d, stimulant o/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dypnea (narcotic/sedative o/d, CNS insul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mpera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ver (infection, thyroid storm, heatstroke, aspirin toxicity, extreme adrenergic overflow of some drug o/d’s or DT’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hermia (infection, thyroid/adrenal insufficiency, expos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6:49:14Z</dcterms:created>
  <dc:creator>Katrina Rapa</dc:creator>
  <dc:description/>
  <dc:language>en-US</dc:language>
  <cp:lastModifiedBy>Steinhart Rachel</cp:lastModifiedBy>
  <dcterms:modified xsi:type="dcterms:W3CDTF">2010-03-15T05:48:33Z</dcterms:modified>
  <cp:revision>18</cp:revision>
  <dc:subject/>
  <dc:title>Altered Level of Consciousness</dc:title>
</cp:coreProperties>
</file>